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3C34-D563-4F5A-9638-0B2DABAFB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4904-DA7C-4EC3-AB75-A7E815AFDC7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3BCC-CF6C-4B03-B362-9BF1107717F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14040" rIns="14040" tIns="14040" bIns="14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C01E-806B-413E-8C31-08CAD5219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D8B5-3537-4B73-A65B-9D1C7F036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DA8C-C4F1-4D75-9197-12A7F2373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E187-7E24-4998-A525-CB099A7690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43E2-8472-4C28-BE5B-1913A1D51E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D74F-5B0C-4BD1-935B-F0538CFD1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24AC-7812-41F7-89BB-BDD277963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0FBB-F332-4217-AB10-7AFF4B46F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1E25-D4DE-4626-8457-5806D85CA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4C1B-6143-4476-B846-D112C780A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9BBA4-FA66-4341-A800-2ECB4F90B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BAFE-CFBC-4093-BEAC-2BEF87BEA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bama.ua.edu/~jhartman" TargetMode="External"/><Relationship Id="rId3" Type="http://schemas.openxmlformats.org/officeDocument/2006/relationships/hyperlink" Target="http://bama.ua.edu/~jhartman/689/tutintro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C4C4-E407-4A6D-AD89-4C9DF798A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9">
            <a:hlinkClick r:id="rId2"/>
          </p:cNvPr>
          <p:cNvSpPr/>
          <p:nvPr/>
        </p:nvSpPr>
        <p:spPr>
          <a:xfrm>
            <a:off x="685800" y="6400800"/>
            <a:ext cx="2895480" cy="304920"/>
          </a:xfrm>
          <a:custGeom>
            <a:avLst/>
            <a:gdLst>
              <a:gd name="textAreaLeft" fmla="*/ 19440 w 2895480"/>
              <a:gd name="textAreaRight" fmla="*/ 2876040 w 2895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04894" h="21600">
                <a:moveTo>
                  <a:pt x="0" y="0"/>
                </a:moveTo>
                <a:lnTo>
                  <a:pt x="204894" y="0"/>
                </a:lnTo>
                <a:lnTo>
                  <a:pt x="204894" y="21600"/>
                </a:lnTo>
                <a:lnTo>
                  <a:pt x="0" y="21600"/>
                </a:lnTo>
                <a:close/>
              </a:path>
              <a:path fill="lightenLess" w="204894" h="21600">
                <a:moveTo>
                  <a:pt x="0" y="0"/>
                </a:moveTo>
                <a:lnTo>
                  <a:pt x="204894" y="0"/>
                </a:lnTo>
                <a:lnTo>
                  <a:pt x="203494" y="1400"/>
                </a:lnTo>
                <a:lnTo>
                  <a:pt x="1400" y="1400"/>
                </a:lnTo>
                <a:close/>
              </a:path>
              <a:path fill="darken" w="204894" h="21600">
                <a:moveTo>
                  <a:pt x="204894" y="0"/>
                </a:moveTo>
                <a:lnTo>
                  <a:pt x="204894" y="21600"/>
                </a:lnTo>
                <a:lnTo>
                  <a:pt x="203494" y="20200"/>
                </a:lnTo>
                <a:lnTo>
                  <a:pt x="203494" y="1400"/>
                </a:lnTo>
                <a:close/>
              </a:path>
              <a:path fill="darkenLess" w="204894" h="21600">
                <a:moveTo>
                  <a:pt x="204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94" y="20200"/>
                </a:lnTo>
                <a:close/>
              </a:path>
              <a:path fill="lighten" w="204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AutoShape 10">
            <a:hlinkClick r:id="rId3"/>
          </p:cNvPr>
          <p:cNvSpPr/>
          <p:nvPr/>
        </p:nvSpPr>
        <p:spPr>
          <a:xfrm>
            <a:off x="304920" y="6400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noFill/>
          <a:ln w="6480">
            <a:solidFill>
              <a:srgbClr val="ead7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9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1F42-71DB-4153-87AD-13A4D7AC7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5840" y="609120"/>
            <a:ext cx="7313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d7f5"/>
                </a:solidFill>
                <a:latin typeface="Tahoma"/>
              </a:rPr>
              <a:t>An Interactive Tutorial for SPSS 10.0 for Windows</a:t>
            </a:r>
            <a:r>
              <a:rPr b="0" lang="en-US" sz="2400" spc="-1" strike="noStrike" baseline="30000">
                <a:solidFill>
                  <a:srgbClr val="ead7f5"/>
                </a:solidFill>
                <a:latin typeface="Tahoma"/>
              </a:rPr>
              <a:t>©</a:t>
            </a:r>
            <a:endParaRPr b="0" lang="en-US" sz="2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2819520" y="4343400"/>
            <a:ext cx="3504960" cy="91440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ahoma"/>
              </a:rPr>
              <a:t>Julia Hartma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914400" y="2133720"/>
            <a:ext cx="7313760" cy="144756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Computing Variabl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AutoShape 19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D683-41CB-4F27-8F0A-77FA0E687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Picture 10" descr="C:\Instructional Technology\BCT689\PowerPoint\spss gifs\compute\compute1.gif"/>
          <p:cNvPicPr/>
          <p:nvPr/>
        </p:nvPicPr>
        <p:blipFill>
          <a:blip r:embed="rId1"/>
          <a:stretch/>
        </p:blipFill>
        <p:spPr>
          <a:xfrm>
            <a:off x="609480" y="2286000"/>
            <a:ext cx="5027760" cy="2954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Naming the New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867280" y="2222640"/>
            <a:ext cx="2743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assign a value to the variable, you must type the variable name in the box labeled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arget Variabl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AutoShape 6">
            <a:hlinkClick r:id="" action="ppaction://hlinkshowjump?jump=nextslide"/>
          </p:cNvPr>
          <p:cNvSpPr/>
          <p:nvPr/>
        </p:nvSpPr>
        <p:spPr>
          <a:xfrm>
            <a:off x="685800" y="25909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AutoShape 12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AutoShape 13">
            <a:hlinkClick r:id="" action="ppaction://hlinkshowjump?jump=nextslide"/>
          </p:cNvPr>
          <p:cNvSpPr/>
          <p:nvPr/>
        </p:nvSpPr>
        <p:spPr>
          <a:xfrm>
            <a:off x="685800" y="2666880"/>
            <a:ext cx="914400" cy="228600"/>
          </a:xfrm>
          <a:custGeom>
            <a:avLst/>
            <a:gdLst>
              <a:gd name="textAreaLeft" fmla="*/ 14760 w 914400"/>
              <a:gd name="textAreaRight" fmla="*/ 899640 w 914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18C0-1528-4FDB-A902-784E26D76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2" descr="C:\Instructional Technology\BCT689\PowerPoint\spss gifs\compute\ancova dummy vars\fdummy1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Assigning a Valu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867280" y="4267080"/>
            <a:ext cx="2895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To set the value of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to zero, 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5867280" y="2209680"/>
            <a:ext cx="2895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You can’t type in this tutorial, so the  name of the  new variable (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has already been entere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Oval 11"/>
          <p:cNvSpPr/>
          <p:nvPr/>
        </p:nvSpPr>
        <p:spPr>
          <a:xfrm>
            <a:off x="3187800" y="3962520"/>
            <a:ext cx="38088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AutoShape 12">
            <a:hlinkClick r:id="" action="ppaction://hlinkshowjump?jump=nextslide"/>
          </p:cNvPr>
          <p:cNvSpPr/>
          <p:nvPr/>
        </p:nvSpPr>
        <p:spPr>
          <a:xfrm>
            <a:off x="3198960" y="395748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B916-0A90-45AB-B724-5DBD740CF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6" descr="C:\Instructional Technology\BCT689\PowerPoint\spss gifs\compute\ancova dummy vars\fdummy2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Assigning a Valu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39" name="AutoShape 4">
            <a:hlinkClick r:id="" action="ppaction://hlinkshowjump?jump=nextslide"/>
          </p:cNvPr>
          <p:cNvSpPr/>
          <p:nvPr/>
        </p:nvSpPr>
        <p:spPr>
          <a:xfrm>
            <a:off x="2362320" y="48006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867280" y="2108160"/>
            <a:ext cx="3124440" cy="34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The zero appears in the box labeled </a:t>
            </a:r>
            <a:br>
              <a:rPr sz="2600"/>
            </a:b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umeric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xpressio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resulting in the formula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 = 0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K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button to complete the transformation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36A1-F2AE-4BB4-A368-DA73CB0D6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Variables Selectively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914400" y="2514600"/>
            <a:ext cx="7315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receding steps added the variable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dummy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the data file and assigned a value of zero (0) to all cases (records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xt, the value of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dummy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be changed to one (1) for all females in the datas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DB63-C944-45DD-913D-C1FFA6791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2" descr="C:\Instructional Technology\BCT689\PowerPoint\spss gifs\compute\menu1.gif"/>
          <p:cNvPicPr/>
          <p:nvPr/>
        </p:nvPicPr>
        <p:blipFill>
          <a:blip r:embed="rId1"/>
          <a:stretch/>
        </p:blipFill>
        <p:spPr>
          <a:xfrm>
            <a:off x="4570560" y="3016080"/>
            <a:ext cx="2549520" cy="1920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Variables Selectively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38080" y="30160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5016600" y="29718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compute a new value for an existing variab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AD5E-82CA-4F3A-B64F-833896FE8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Picture 2" descr="C:\Instructional Technology\BCT689\PowerPoint\spss gifs\compute\menu2.gif"/>
          <p:cNvPicPr/>
          <p:nvPr/>
        </p:nvPicPr>
        <p:blipFill>
          <a:blip r:embed="rId1"/>
          <a:stretch/>
        </p:blipFill>
        <p:spPr>
          <a:xfrm>
            <a:off x="4570560" y="3016080"/>
            <a:ext cx="2732040" cy="1863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Variables Selectively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838080" y="3016080"/>
            <a:ext cx="3505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mput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AutoShape 5">
            <a:hlinkClick r:id="" action="ppaction://hlinkshowjump?jump=nextslide"/>
          </p:cNvPr>
          <p:cNvSpPr/>
          <p:nvPr/>
        </p:nvSpPr>
        <p:spPr>
          <a:xfrm>
            <a:off x="5181480" y="32004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BAC0-B851-42CF-8CE2-B5C38C9EB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2" name="Picture 2" descr="C:\Instructional Technology\BCT689\PowerPoint\spss gifs\compute\menu3.gif"/>
          <p:cNvPicPr/>
          <p:nvPr/>
        </p:nvPicPr>
        <p:blipFill>
          <a:blip r:embed="rId1"/>
          <a:stretch/>
        </p:blipFill>
        <p:spPr>
          <a:xfrm>
            <a:off x="4570560" y="3016080"/>
            <a:ext cx="2732040" cy="1874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Variables Selectively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38080" y="3016080"/>
            <a:ext cx="3505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mput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AutoShape 5">
            <a:hlinkClick r:id="" action="ppaction://hlinkshowjump?jump=nextslide"/>
          </p:cNvPr>
          <p:cNvSpPr/>
          <p:nvPr/>
        </p:nvSpPr>
        <p:spPr>
          <a:xfrm>
            <a:off x="5181480" y="3276720"/>
            <a:ext cx="1828800" cy="30456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29574" h="21600">
                <a:moveTo>
                  <a:pt x="0" y="0"/>
                </a:moveTo>
                <a:lnTo>
                  <a:pt x="129574" y="0"/>
                </a:lnTo>
                <a:lnTo>
                  <a:pt x="129574" y="21600"/>
                </a:lnTo>
                <a:lnTo>
                  <a:pt x="0" y="21600"/>
                </a:lnTo>
                <a:close/>
              </a:path>
              <a:path fill="lightenLess" w="129574" h="21600">
                <a:moveTo>
                  <a:pt x="0" y="0"/>
                </a:moveTo>
                <a:lnTo>
                  <a:pt x="129574" y="0"/>
                </a:lnTo>
                <a:lnTo>
                  <a:pt x="128175" y="1400"/>
                </a:lnTo>
                <a:lnTo>
                  <a:pt x="1400" y="1400"/>
                </a:lnTo>
                <a:close/>
              </a:path>
              <a:path fill="darken" w="129574" h="21600">
                <a:moveTo>
                  <a:pt x="129574" y="0"/>
                </a:moveTo>
                <a:lnTo>
                  <a:pt x="129574" y="21600"/>
                </a:lnTo>
                <a:lnTo>
                  <a:pt x="128175" y="20200"/>
                </a:lnTo>
                <a:lnTo>
                  <a:pt x="128175" y="1400"/>
                </a:lnTo>
                <a:close/>
              </a:path>
              <a:path fill="darkenLess" w="129574" h="21600">
                <a:moveTo>
                  <a:pt x="129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75" y="20200"/>
                </a:lnTo>
                <a:close/>
              </a:path>
              <a:path fill="lighten" w="129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905120" y="4754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D794-C815-4C93-84AC-0B3EE6659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9" name="Picture 5" descr="C:\Instructional Technology\BCT689\PowerPoint\spss gifs\compute\compute1.gif"/>
          <p:cNvPicPr/>
          <p:nvPr/>
        </p:nvPicPr>
        <p:blipFill>
          <a:blip r:embed="rId1"/>
          <a:stretch/>
        </p:blipFill>
        <p:spPr>
          <a:xfrm>
            <a:off x="609480" y="2286000"/>
            <a:ext cx="5027760" cy="2954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pecifying the Target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5867280" y="2235240"/>
            <a:ext cx="28958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In SPSS, you would type the variable name in the box labeled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arget Variable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but that doesn’t work in this tutorial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AutoShape 4">
            <a:hlinkClick r:id="" action="ppaction://hlinkshowjump?jump=nextslide"/>
          </p:cNvPr>
          <p:cNvSpPr/>
          <p:nvPr/>
        </p:nvSpPr>
        <p:spPr>
          <a:xfrm>
            <a:off x="685800" y="2666880"/>
            <a:ext cx="990720" cy="228600"/>
          </a:xfrm>
          <a:custGeom>
            <a:avLst/>
            <a:gdLst>
              <a:gd name="textAreaLeft" fmla="*/ 14760 w 990720"/>
              <a:gd name="textAreaRight" fmla="*/ 975960 w 9907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93498" h="21600">
                <a:moveTo>
                  <a:pt x="0" y="0"/>
                </a:moveTo>
                <a:lnTo>
                  <a:pt x="93498" y="0"/>
                </a:lnTo>
                <a:lnTo>
                  <a:pt x="93498" y="21600"/>
                </a:lnTo>
                <a:lnTo>
                  <a:pt x="0" y="21600"/>
                </a:lnTo>
                <a:close/>
              </a:path>
              <a:path fill="lightenLess" w="93498" h="21600">
                <a:moveTo>
                  <a:pt x="0" y="0"/>
                </a:moveTo>
                <a:lnTo>
                  <a:pt x="93498" y="0"/>
                </a:lnTo>
                <a:lnTo>
                  <a:pt x="92098" y="1400"/>
                </a:lnTo>
                <a:lnTo>
                  <a:pt x="1400" y="1400"/>
                </a:lnTo>
                <a:close/>
              </a:path>
              <a:path fill="darken" w="93498" h="21600">
                <a:moveTo>
                  <a:pt x="93498" y="0"/>
                </a:moveTo>
                <a:lnTo>
                  <a:pt x="93498" y="21600"/>
                </a:lnTo>
                <a:lnTo>
                  <a:pt x="92098" y="20200"/>
                </a:lnTo>
                <a:lnTo>
                  <a:pt x="92098" y="1400"/>
                </a:lnTo>
                <a:close/>
              </a:path>
              <a:path fill="darkenLess" w="93498" h="21600">
                <a:moveTo>
                  <a:pt x="93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098" y="20200"/>
                </a:lnTo>
                <a:close/>
              </a:path>
              <a:path fill="lighten" w="93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AutoShape 7">
            <a:hlinkClick r:id="" action="ppaction://hlinkshowjump?jump=nextslide"/>
          </p:cNvPr>
          <p:cNvSpPr/>
          <p:nvPr/>
        </p:nvSpPr>
        <p:spPr>
          <a:xfrm>
            <a:off x="7924680" y="588024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AutoShape 8">
            <a:hlinkClick r:id="" action="ppaction://hlinkshowjump?jump=nextslide"/>
          </p:cNvPr>
          <p:cNvSpPr/>
          <p:nvPr/>
        </p:nvSpPr>
        <p:spPr>
          <a:xfrm>
            <a:off x="685800" y="2666880"/>
            <a:ext cx="914400" cy="228600"/>
          </a:xfrm>
          <a:custGeom>
            <a:avLst/>
            <a:gdLst>
              <a:gd name="textAreaLeft" fmla="*/ 14760 w 914400"/>
              <a:gd name="textAreaRight" fmla="*/ 899640 w 914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E40D-EA22-49BF-AC11-7DA471E42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2" descr="C:\Instructional Technology\BCT689\PowerPoint\spss gifs\compute\ancova dummy vars\fdummy1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pecifying the Target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80" name="AutoShape 4">
            <a:hlinkClick r:id="" action="ppaction://hlinkshowjump?jump=nextslide"/>
          </p:cNvPr>
          <p:cNvSpPr/>
          <p:nvPr/>
        </p:nvSpPr>
        <p:spPr>
          <a:xfrm>
            <a:off x="2336760" y="444492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5850000" y="3962520"/>
            <a:ext cx="291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change  the value of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 selected cases, click the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If…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850000" y="2133720"/>
            <a:ext cx="306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is graphic, the name of the target variable (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has already been entere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2349360" y="4419720"/>
            <a:ext cx="4572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35A0-6535-4710-8630-535F48413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Picture 6" descr="C:\Instructional Technology\BCT689\PowerPoint\spss gifs\compute\ancova dummy vars\if1.gif"/>
          <p:cNvPicPr/>
          <p:nvPr/>
        </p:nvPicPr>
        <p:blipFill>
          <a:blip r:embed="rId1"/>
          <a:stretch/>
        </p:blipFill>
        <p:spPr>
          <a:xfrm>
            <a:off x="3606840" y="2362320"/>
            <a:ext cx="5027400" cy="28321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f Cas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88" name="AutoShape 4">
            <a:hlinkClick r:id="" action="ppaction://hlinkshowjump?jump=nextslide"/>
          </p:cNvPr>
          <p:cNvSpPr/>
          <p:nvPr/>
        </p:nvSpPr>
        <p:spPr>
          <a:xfrm>
            <a:off x="5423040" y="283212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11280" y="2435400"/>
            <a:ext cx="28954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set the selection criteria, click the button labeled</a:t>
            </a:r>
            <a:br>
              <a:rPr sz="2800"/>
            </a:b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Include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i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f case satisfies condition: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3138-5E6E-41B4-A4C3-C0112504B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AutoShape 43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609480" y="3505320"/>
            <a:ext cx="7925040" cy="106884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computes values for a variable based on numeric transformations of other variables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609480" y="213372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cording to SPSS Help, the Compute Variable comman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207D-726F-4C67-AD76-27C86405E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Picture 6" descr="C:\Instructional Technology\BCT689\PowerPoint\spss gifs\compute\ancova dummy vars\if2.gif"/>
          <p:cNvPicPr/>
          <p:nvPr/>
        </p:nvPicPr>
        <p:blipFill>
          <a:blip r:embed="rId1"/>
          <a:stretch/>
        </p:blipFill>
        <p:spPr>
          <a:xfrm>
            <a:off x="3610080" y="2357280"/>
            <a:ext cx="5027400" cy="28339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f Cas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94" name="AutoShape 4">
            <a:hlinkClick r:id="" action="ppaction://hlinkshowjump?jump=nextslide"/>
          </p:cNvPr>
          <p:cNvSpPr/>
          <p:nvPr/>
        </p:nvSpPr>
        <p:spPr>
          <a:xfrm>
            <a:off x="3733920" y="3467160"/>
            <a:ext cx="1066680" cy="266760"/>
          </a:xfrm>
          <a:custGeom>
            <a:avLst/>
            <a:gdLst>
              <a:gd name="textAreaLeft" fmla="*/ 17280 w 1066680"/>
              <a:gd name="textAreaRight" fmla="*/ 1049400 w 10666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86284" h="21600">
                <a:moveTo>
                  <a:pt x="0" y="0"/>
                </a:moveTo>
                <a:lnTo>
                  <a:pt x="86284" y="0"/>
                </a:lnTo>
                <a:lnTo>
                  <a:pt x="86284" y="21600"/>
                </a:lnTo>
                <a:lnTo>
                  <a:pt x="0" y="21600"/>
                </a:lnTo>
                <a:close/>
              </a:path>
              <a:path fill="lightenLess" w="86284" h="21600">
                <a:moveTo>
                  <a:pt x="0" y="0"/>
                </a:moveTo>
                <a:lnTo>
                  <a:pt x="86284" y="0"/>
                </a:lnTo>
                <a:lnTo>
                  <a:pt x="84884" y="1400"/>
                </a:lnTo>
                <a:lnTo>
                  <a:pt x="1400" y="1400"/>
                </a:lnTo>
                <a:close/>
              </a:path>
              <a:path fill="darken" w="86284" h="21600">
                <a:moveTo>
                  <a:pt x="86284" y="0"/>
                </a:moveTo>
                <a:lnTo>
                  <a:pt x="86284" y="21600"/>
                </a:lnTo>
                <a:lnTo>
                  <a:pt x="84884" y="20200"/>
                </a:lnTo>
                <a:lnTo>
                  <a:pt x="84884" y="1400"/>
                </a:lnTo>
                <a:close/>
              </a:path>
              <a:path fill="darkenLess" w="86284" h="21600">
                <a:moveTo>
                  <a:pt x="862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84" y="20200"/>
                </a:lnTo>
                <a:close/>
              </a:path>
              <a:path fill="lighten" w="862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11280" y="2192400"/>
            <a:ext cx="28954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set the selection criteria to gender = 1 (female), click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Studen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[gender]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the variable li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2908-899D-4DEA-A86B-640D6CDB5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8" name="Picture 6" descr="C:\Instructional Technology\BCT689\PowerPoint\spss gifs\compute\ancova dummy vars\if3.gif"/>
          <p:cNvPicPr/>
          <p:nvPr/>
        </p:nvPicPr>
        <p:blipFill>
          <a:blip r:embed="rId1"/>
          <a:stretch/>
        </p:blipFill>
        <p:spPr>
          <a:xfrm>
            <a:off x="3610080" y="2357280"/>
            <a:ext cx="5027400" cy="28339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f Cas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0" name="AutoShape 3">
            <a:hlinkClick r:id="" action="ppaction://hlinkshowjump?jump=nextslide"/>
          </p:cNvPr>
          <p:cNvSpPr/>
          <p:nvPr/>
        </p:nvSpPr>
        <p:spPr>
          <a:xfrm>
            <a:off x="5029200" y="3048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11280" y="219240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 the criteria box 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A8E1-ECC2-436C-8358-E61230BBB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4" name="Picture 6" descr="C:\Instructional Technology\BCT689\PowerPoint\spss gifs\compute\ancova dummy vars\if4.gif"/>
          <p:cNvPicPr/>
          <p:nvPr/>
        </p:nvPicPr>
        <p:blipFill>
          <a:blip r:embed="rId1"/>
          <a:stretch/>
        </p:blipFill>
        <p:spPr>
          <a:xfrm>
            <a:off x="3610080" y="2357280"/>
            <a:ext cx="5027400" cy="28339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f Cas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609480" y="365616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button with the equal sign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611280" y="219240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 the criteria box 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Oval 13"/>
          <p:cNvSpPr/>
          <p:nvPr/>
        </p:nvSpPr>
        <p:spPr>
          <a:xfrm>
            <a:off x="5626080" y="402732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AutoShape 14">
            <a:hlinkClick r:id="" action="ppaction://hlinkshowjump?jump=nextslide"/>
          </p:cNvPr>
          <p:cNvSpPr/>
          <p:nvPr/>
        </p:nvSpPr>
        <p:spPr>
          <a:xfrm>
            <a:off x="5638680" y="4038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0D92-A601-4078-B6BC-17B285311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2" name="Picture 10" descr="C:\Instructional Technology\BCT689\PowerPoint\spss gifs\compute\ancova dummy vars\if5.gif"/>
          <p:cNvPicPr/>
          <p:nvPr/>
        </p:nvPicPr>
        <p:blipFill>
          <a:blip r:embed="rId1"/>
          <a:stretch/>
        </p:blipFill>
        <p:spPr>
          <a:xfrm>
            <a:off x="3610080" y="2357280"/>
            <a:ext cx="5027400" cy="2833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f Cas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14" name="AutoShape 4">
            <a:hlinkClick r:id="" action="ppaction://hlinkshowjump?jump=nextslide"/>
          </p:cNvPr>
          <p:cNvSpPr/>
          <p:nvPr/>
        </p:nvSpPr>
        <p:spPr>
          <a:xfrm>
            <a:off x="6121440" y="4089240"/>
            <a:ext cx="241200" cy="216000"/>
          </a:xfrm>
          <a:custGeom>
            <a:avLst/>
            <a:gdLst>
              <a:gd name="textAreaLeft" fmla="*/ 13680 w 241200"/>
              <a:gd name="textAreaRight" fmla="*/ 227520 w 2412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4116" h="21600">
                <a:moveTo>
                  <a:pt x="0" y="0"/>
                </a:moveTo>
                <a:lnTo>
                  <a:pt x="24116" y="0"/>
                </a:lnTo>
                <a:lnTo>
                  <a:pt x="24116" y="21600"/>
                </a:lnTo>
                <a:lnTo>
                  <a:pt x="0" y="21600"/>
                </a:lnTo>
                <a:close/>
              </a:path>
              <a:path fill="lightenLess" w="24116" h="21600">
                <a:moveTo>
                  <a:pt x="0" y="0"/>
                </a:moveTo>
                <a:lnTo>
                  <a:pt x="24116" y="0"/>
                </a:lnTo>
                <a:lnTo>
                  <a:pt x="22716" y="1400"/>
                </a:lnTo>
                <a:lnTo>
                  <a:pt x="1400" y="1400"/>
                </a:lnTo>
                <a:close/>
              </a:path>
              <a:path fill="darken" w="24116" h="21600">
                <a:moveTo>
                  <a:pt x="24116" y="0"/>
                </a:moveTo>
                <a:lnTo>
                  <a:pt x="24116" y="21600"/>
                </a:lnTo>
                <a:lnTo>
                  <a:pt x="22716" y="20200"/>
                </a:lnTo>
                <a:lnTo>
                  <a:pt x="22716" y="1400"/>
                </a:lnTo>
                <a:close/>
              </a:path>
              <a:path fill="darkenLess" w="24116" h="21600">
                <a:moveTo>
                  <a:pt x="24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6" y="20200"/>
                </a:lnTo>
                <a:close/>
              </a:path>
              <a:path fill="lighten" w="24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11280" y="219240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 the criteria box 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09480" y="3656160"/>
            <a:ext cx="304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button with the equal sign, then 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(value for female in the file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2B77-3925-4A60-B29D-C86A1A549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9" name="Picture 7" descr="C:\Instructional Technology\BCT689\PowerPoint\spss gifs\compute\ancova dummy vars\fgpaif6.gif"/>
          <p:cNvPicPr/>
          <p:nvPr/>
        </p:nvPicPr>
        <p:blipFill>
          <a:blip r:embed="rId1"/>
          <a:stretch/>
        </p:blipFill>
        <p:spPr>
          <a:xfrm>
            <a:off x="3610080" y="2357280"/>
            <a:ext cx="5027400" cy="2833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f Cas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21" name="AutoShape 4">
            <a:hlinkClick r:id="" action="ppaction://hlinkshowjump?jump=nextslide"/>
          </p:cNvPr>
          <p:cNvSpPr/>
          <p:nvPr/>
        </p:nvSpPr>
        <p:spPr>
          <a:xfrm>
            <a:off x="5334120" y="48006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11280" y="2438280"/>
            <a:ext cx="2895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alues will be changed only if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 = 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Continue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3664-1D89-4E19-8F9C-9F4A34382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5" name="Picture 6" descr="C:\Instructional Technology\BCT689\PowerPoint\spss gifs\compute\ancova dummy vars\fdummy3a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Assigning a Valu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5867280" y="2376360"/>
            <a:ext cx="251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ondition 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 = 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displayed next to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f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2362320" y="4495680"/>
            <a:ext cx="1066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AutoShape 10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6563-43B2-41C4-9EBE-21C20B9AD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3" name="Picture 2" descr="C:\Instructional Technology\BCT689\PowerPoint\spss gifs\compute\ancova dummy vars\fdummy3a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Assigning a Valu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35" name="AutoShape 4">
            <a:hlinkClick r:id="" action="ppaction://hlinkshowjump?jump=nextslide"/>
          </p:cNvPr>
          <p:cNvSpPr/>
          <p:nvPr/>
        </p:nvSpPr>
        <p:spPr>
          <a:xfrm>
            <a:off x="3162240" y="38098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867280" y="2376360"/>
            <a:ext cx="2819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set the value of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 =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 = 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E425-48B4-4675-9A9F-7BC5B1A87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9" name="Picture 6" descr="C:\Instructional Technology\BCT689\PowerPoint\spss gifs\compute\ancova dummy vars\fdummy5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Assigning a Valu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41" name="AutoShape 4">
            <a:hlinkClick r:id="" action="ppaction://hlinkshowjump?jump=nextslide"/>
          </p:cNvPr>
          <p:cNvSpPr/>
          <p:nvPr/>
        </p:nvSpPr>
        <p:spPr>
          <a:xfrm>
            <a:off x="2362320" y="4838760"/>
            <a:ext cx="533160" cy="266760"/>
          </a:xfrm>
          <a:custGeom>
            <a:avLst/>
            <a:gdLst>
              <a:gd name="textAreaLeft" fmla="*/ 17280 w 533160"/>
              <a:gd name="textAreaRight" fmla="*/ 515880 w 53316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43142" h="21600">
                <a:moveTo>
                  <a:pt x="0" y="0"/>
                </a:moveTo>
                <a:lnTo>
                  <a:pt x="43142" y="0"/>
                </a:lnTo>
                <a:lnTo>
                  <a:pt x="43142" y="21600"/>
                </a:lnTo>
                <a:lnTo>
                  <a:pt x="0" y="21600"/>
                </a:lnTo>
                <a:close/>
              </a:path>
              <a:path fill="lightenLess" w="43142" h="21600">
                <a:moveTo>
                  <a:pt x="0" y="0"/>
                </a:moveTo>
                <a:lnTo>
                  <a:pt x="43142" y="0"/>
                </a:lnTo>
                <a:lnTo>
                  <a:pt x="41742" y="1400"/>
                </a:lnTo>
                <a:lnTo>
                  <a:pt x="1400" y="1400"/>
                </a:lnTo>
                <a:close/>
              </a:path>
              <a:path fill="darken" w="43142" h="21600">
                <a:moveTo>
                  <a:pt x="43142" y="0"/>
                </a:moveTo>
                <a:lnTo>
                  <a:pt x="43142" y="21600"/>
                </a:lnTo>
                <a:lnTo>
                  <a:pt x="41742" y="20200"/>
                </a:lnTo>
                <a:lnTo>
                  <a:pt x="41742" y="1400"/>
                </a:lnTo>
                <a:close/>
              </a:path>
              <a:path fill="darkenLess" w="43142" h="21600">
                <a:moveTo>
                  <a:pt x="431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2" y="20200"/>
                </a:lnTo>
                <a:close/>
              </a:path>
              <a:path fill="lighten" w="431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867280" y="2376360"/>
            <a:ext cx="312444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ppears in the box labeled </a:t>
            </a:r>
            <a:br>
              <a:rPr sz="2800"/>
            </a:b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umeric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xpressio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to complete the transform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4A3A-7167-4EEC-83B6-37A422F7D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5" name="Picture 6" descr="C:\Instructional Technology\BCT689\PowerPoint\spss gifs\compute\ancova dummy vars\fdummy6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88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Selectively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Assigning a Valu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47" name="AutoShape 4">
            <a:hlinkClick r:id="" action="ppaction://hlinkshowjump?jump=nextslide"/>
          </p:cNvPr>
          <p:cNvSpPr/>
          <p:nvPr/>
        </p:nvSpPr>
        <p:spPr>
          <a:xfrm>
            <a:off x="1905120" y="3962520"/>
            <a:ext cx="1143000" cy="30456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0994" h="21600">
                <a:moveTo>
                  <a:pt x="0" y="0"/>
                </a:moveTo>
                <a:lnTo>
                  <a:pt x="80994" y="0"/>
                </a:lnTo>
                <a:lnTo>
                  <a:pt x="80994" y="21600"/>
                </a:lnTo>
                <a:lnTo>
                  <a:pt x="0" y="21600"/>
                </a:lnTo>
                <a:close/>
              </a:path>
              <a:path fill="lightenLess" w="80994" h="21600">
                <a:moveTo>
                  <a:pt x="0" y="0"/>
                </a:moveTo>
                <a:lnTo>
                  <a:pt x="80994" y="0"/>
                </a:lnTo>
                <a:lnTo>
                  <a:pt x="79594" y="1400"/>
                </a:lnTo>
                <a:lnTo>
                  <a:pt x="1400" y="1400"/>
                </a:lnTo>
                <a:close/>
              </a:path>
              <a:path fill="darken" w="80994" h="21600">
                <a:moveTo>
                  <a:pt x="80994" y="0"/>
                </a:moveTo>
                <a:lnTo>
                  <a:pt x="80994" y="21600"/>
                </a:lnTo>
                <a:lnTo>
                  <a:pt x="79594" y="20200"/>
                </a:lnTo>
                <a:lnTo>
                  <a:pt x="79594" y="1400"/>
                </a:lnTo>
                <a:close/>
              </a:path>
              <a:path fill="darkenLess" w="80994" h="21600">
                <a:moveTo>
                  <a:pt x="80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4" y="20200"/>
                </a:lnTo>
                <a:close/>
              </a:path>
              <a:path fill="lighten" w="80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867280" y="2376360"/>
            <a:ext cx="3124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dialog box warns that the value of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will be change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permit the chang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C82E-44CB-4A95-A8C6-C08801FF6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Us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AutoShape 4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09480" y="2286000"/>
            <a:ext cx="79981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receding step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ded the variable 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the data file and assigned a value of zero (0) to all cas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nged the value of 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one (1) for all females in the datas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0957-CEEA-4038-8461-9310ADFBD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09480" y="3198960"/>
            <a:ext cx="7998120" cy="210024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spcBef>
                <a:spcPts val="15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You can compute values for numeric or string (alphanumeric) variabl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174600" indent="-174600">
              <a:spcBef>
                <a:spcPts val="15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You can create new variables or replace the values of existing variables. For new variables, you can also specify the variable type and labe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09480" y="2057400"/>
            <a:ext cx="79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ording to SPSS Help, using the Compute Variable command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C0BA-DEA3-48A5-BCA9-E0CDD0322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Us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AutoShape 4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143000" y="2286000"/>
            <a:ext cx="6858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w we will use the new variable 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the variable 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totcum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total cumulative undergraduate gpa) to create another new (dummy) variable, 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fgp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by multiplying 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y </a:t>
            </a:r>
            <a:r>
              <a:rPr b="0" lang="en-US" sz="2600" spc="-1" strike="noStrike">
                <a:solidFill>
                  <a:srgbClr val="ccccff"/>
                </a:solidFill>
                <a:latin typeface="Arial"/>
              </a:rPr>
              <a:t>totcu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7E0E-6E35-4241-8242-098D2F06A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3" name="Picture 2" descr="C:\Instructional Technology\BCT689\PowerPoint\spss gifs\compute\menu1.gif"/>
          <p:cNvPicPr/>
          <p:nvPr/>
        </p:nvPicPr>
        <p:blipFill>
          <a:blip r:embed="rId1"/>
          <a:stretch/>
        </p:blipFill>
        <p:spPr>
          <a:xfrm>
            <a:off x="4570560" y="3016080"/>
            <a:ext cx="2549520" cy="19209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Using a Formula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a New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38080" y="30160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AutoShape 5">
            <a:hlinkClick r:id="" action="ppaction://hlinkshowjump?jump=nextslide"/>
          </p:cNvPr>
          <p:cNvSpPr/>
          <p:nvPr/>
        </p:nvSpPr>
        <p:spPr>
          <a:xfrm>
            <a:off x="5016600" y="29718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compute a new variab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99FE-A7E1-4E26-9F5F-21A009BB2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Picture 2" descr="C:\Instructional Technology\BCT689\PowerPoint\spss gifs\compute\menu2.gif"/>
          <p:cNvPicPr/>
          <p:nvPr/>
        </p:nvPicPr>
        <p:blipFill>
          <a:blip r:embed="rId1"/>
          <a:stretch/>
        </p:blipFill>
        <p:spPr>
          <a:xfrm>
            <a:off x="4570560" y="3016080"/>
            <a:ext cx="2732040" cy="18637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a New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38080" y="3016080"/>
            <a:ext cx="3505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mput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AutoShape 5">
            <a:hlinkClick r:id="" action="ppaction://hlinkshowjump?jump=nextslide"/>
          </p:cNvPr>
          <p:cNvSpPr/>
          <p:nvPr/>
        </p:nvSpPr>
        <p:spPr>
          <a:xfrm>
            <a:off x="5181480" y="32004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compute a variab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2B0D-7316-426F-B7C3-24F657455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7" name="Picture 2" descr="C:\Instructional Technology\BCT689\PowerPoint\spss gifs\compute\menu3.gif"/>
          <p:cNvPicPr/>
          <p:nvPr/>
        </p:nvPicPr>
        <p:blipFill>
          <a:blip r:embed="rId1"/>
          <a:stretch/>
        </p:blipFill>
        <p:spPr>
          <a:xfrm>
            <a:off x="4570560" y="3016080"/>
            <a:ext cx="2732040" cy="18748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838080" y="3016080"/>
            <a:ext cx="3505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mput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AutoShape 4">
            <a:hlinkClick r:id="" action="ppaction://hlinkshowjump?jump=nextslide"/>
          </p:cNvPr>
          <p:cNvSpPr/>
          <p:nvPr/>
        </p:nvSpPr>
        <p:spPr>
          <a:xfrm>
            <a:off x="5181480" y="3276720"/>
            <a:ext cx="1828800" cy="30456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29574" h="21600">
                <a:moveTo>
                  <a:pt x="0" y="0"/>
                </a:moveTo>
                <a:lnTo>
                  <a:pt x="129574" y="0"/>
                </a:lnTo>
                <a:lnTo>
                  <a:pt x="129574" y="21600"/>
                </a:lnTo>
                <a:lnTo>
                  <a:pt x="0" y="21600"/>
                </a:lnTo>
                <a:close/>
              </a:path>
              <a:path fill="lightenLess" w="129574" h="21600">
                <a:moveTo>
                  <a:pt x="0" y="0"/>
                </a:moveTo>
                <a:lnTo>
                  <a:pt x="129574" y="0"/>
                </a:lnTo>
                <a:lnTo>
                  <a:pt x="128175" y="1400"/>
                </a:lnTo>
                <a:lnTo>
                  <a:pt x="1400" y="1400"/>
                </a:lnTo>
                <a:close/>
              </a:path>
              <a:path fill="darken" w="129574" h="21600">
                <a:moveTo>
                  <a:pt x="129574" y="0"/>
                </a:moveTo>
                <a:lnTo>
                  <a:pt x="129574" y="21600"/>
                </a:lnTo>
                <a:lnTo>
                  <a:pt x="128175" y="20200"/>
                </a:lnTo>
                <a:lnTo>
                  <a:pt x="128175" y="1400"/>
                </a:lnTo>
                <a:close/>
              </a:path>
              <a:path fill="darkenLess" w="129574" h="21600">
                <a:moveTo>
                  <a:pt x="129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75" y="20200"/>
                </a:lnTo>
                <a:close/>
              </a:path>
              <a:path fill="lighten" w="129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905120" y="4754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compute a variab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0948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a New Variab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65DE-13CF-49D6-A507-35598C9E1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5" name="Picture 5" descr="C:\Instructional Technology\BCT689\PowerPoint\spss gifs\compute\compute1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Naming the New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5867280" y="2133720"/>
            <a:ext cx="2743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assign a value to the variable, you must type the variable name in the box labeled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arget Variabl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AutoShape 4">
            <a:hlinkClick r:id="" action="ppaction://hlinkshowjump?jump=nextslide"/>
          </p:cNvPr>
          <p:cNvSpPr/>
          <p:nvPr/>
        </p:nvSpPr>
        <p:spPr>
          <a:xfrm>
            <a:off x="685800" y="25146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AutoShape 7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AutoShape 8">
            <a:hlinkClick r:id="" action="ppaction://hlinkshowjump?jump=nextslide"/>
          </p:cNvPr>
          <p:cNvSpPr/>
          <p:nvPr/>
        </p:nvSpPr>
        <p:spPr>
          <a:xfrm>
            <a:off x="685800" y="2666880"/>
            <a:ext cx="914400" cy="228600"/>
          </a:xfrm>
          <a:custGeom>
            <a:avLst/>
            <a:gdLst>
              <a:gd name="textAreaLeft" fmla="*/ 14760 w 914400"/>
              <a:gd name="textAreaRight" fmla="*/ 899640 w 914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5768-A833-4981-90E4-9D0B265B7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Naming the New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5867280" y="2147760"/>
            <a:ext cx="2895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is graphic, the name of the new variable (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fgpa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has already been entered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AutoShape 6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8" name="Picture 7" descr="C:\Instructional Technology\BCT689\PowerPoint\spss gifs\compute\ancova dummy vars\fgpa1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9"/>
          <p:cNvSpPr/>
          <p:nvPr/>
        </p:nvSpPr>
        <p:spPr>
          <a:xfrm>
            <a:off x="5867280" y="4038480"/>
            <a:ext cx="28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variable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fgpa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will be calculated by multiplying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totcum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by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4A1C-A490-4575-8B5B-47435E35F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2" name="Picture 6" descr="C:\Instructional Technology\BCT689\PowerPoint\spss gifs\compute\ancova dummy vars\fgpa1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nter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5943600" y="2514600"/>
            <a:ext cx="30481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 to 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otcu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UNDERGRAD GPA, TOTAL-CUMULATIV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AutoShape 4">
            <a:hlinkClick r:id="" action="ppaction://hlinkshowjump?jump=nextslide"/>
          </p:cNvPr>
          <p:cNvSpPr/>
          <p:nvPr/>
        </p:nvSpPr>
        <p:spPr>
          <a:xfrm>
            <a:off x="1752480" y="3200400"/>
            <a:ext cx="304920" cy="19051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1905120"/>
              <a:gd name="textAreaBottom" fmla="*/ 1885680 h 1905120"/>
            </a:gdLst>
            <a:ahLst/>
            <a:rect l="textAreaLeft" t="textAreaTop" r="textAreaRight" b="textAreaBottom"/>
            <a:pathLst>
              <a:path w="21600" h="134822">
                <a:moveTo>
                  <a:pt x="0" y="0"/>
                </a:moveTo>
                <a:lnTo>
                  <a:pt x="21600" y="0"/>
                </a:lnTo>
                <a:lnTo>
                  <a:pt x="21600" y="134822"/>
                </a:lnTo>
                <a:lnTo>
                  <a:pt x="0" y="134822"/>
                </a:lnTo>
                <a:close/>
              </a:path>
              <a:path fill="lightenLess" w="21600" h="1348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34822">
                <a:moveTo>
                  <a:pt x="21600" y="0"/>
                </a:moveTo>
                <a:lnTo>
                  <a:pt x="21600" y="134822"/>
                </a:lnTo>
                <a:lnTo>
                  <a:pt x="20200" y="133422"/>
                </a:lnTo>
                <a:lnTo>
                  <a:pt x="20200" y="1400"/>
                </a:lnTo>
                <a:close/>
              </a:path>
              <a:path fill="darkenLess" w="21600" h="134822">
                <a:moveTo>
                  <a:pt x="21600" y="134822"/>
                </a:moveTo>
                <a:lnTo>
                  <a:pt x="0" y="134822"/>
                </a:lnTo>
                <a:lnTo>
                  <a:pt x="1400" y="133422"/>
                </a:lnTo>
                <a:lnTo>
                  <a:pt x="20200" y="133422"/>
                </a:lnTo>
                <a:close/>
              </a:path>
              <a:path fill="lighten" w="21600" h="134822">
                <a:moveTo>
                  <a:pt x="0" y="134822"/>
                </a:moveTo>
                <a:lnTo>
                  <a:pt x="0" y="0"/>
                </a:lnTo>
                <a:lnTo>
                  <a:pt x="1400" y="1400"/>
                </a:lnTo>
                <a:lnTo>
                  <a:pt x="1400" y="1334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FC76-8C4A-4A20-B964-9514A6C9B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Picture 7" descr="C:\Instructional Technology\BCT689\PowerPoint\spss gifs\compute\ancova dummy vars\dfgpa1a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nter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10" name="AutoShape 4">
            <a:hlinkClick r:id="" action="ppaction://hlinkshowjump?jump=nextslide"/>
          </p:cNvPr>
          <p:cNvSpPr/>
          <p:nvPr/>
        </p:nvSpPr>
        <p:spPr>
          <a:xfrm>
            <a:off x="685800" y="391176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6400800" y="5043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5943600" y="2496960"/>
            <a:ext cx="30481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variable list to 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otcu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</a:t>
            </a:r>
            <a:br>
              <a:rPr sz="2800"/>
            </a:b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UNDERGRAD GPA, TOTAL-CUMULATIV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D08A-E02E-403F-A71D-1EE1FDA83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5" name="Picture 7" descr="C:\Instructional Technology\BCT689\PowerPoint\spss gifs\compute\ancova dummy vars\dfgpa1b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nter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17" name="AutoShape 4">
            <a:hlinkClick r:id="" action="ppaction://hlinkshowjump?jump=nextslide"/>
          </p:cNvPr>
          <p:cNvSpPr/>
          <p:nvPr/>
        </p:nvSpPr>
        <p:spPr>
          <a:xfrm>
            <a:off x="1981080" y="31240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5791320" y="2513160"/>
            <a:ext cx="304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arrow to 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otcu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box labeled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umeric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xpress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5B04-A07F-47F6-BBA2-43803D888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1" name="Picture 6" descr="C:\Instructional Technology\BCT689\PowerPoint\spss gifs\compute\ancova dummy vars\dfgpa2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nter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23" name="AutoShape 4">
            <a:hlinkClick r:id="" action="ppaction://hlinkshowjump?jump=nextslide"/>
          </p:cNvPr>
          <p:cNvSpPr/>
          <p:nvPr/>
        </p:nvSpPr>
        <p:spPr>
          <a:xfrm>
            <a:off x="2362320" y="37339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5940360" y="251316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for multiplic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2349360" y="370836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041E-D905-414C-A81D-E2F5D3806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09480" y="3198960"/>
            <a:ext cx="7925040" cy="211320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You can compute values selectively for subsets of data based on logical condition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174600" indent="-174600">
              <a:spcBef>
                <a:spcPts val="15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You can use over 70 built-in functions, including arithmetic functions, statistical functions, distribution functions, and string function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09480" y="2057400"/>
            <a:ext cx="79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ording to SPSS Help, using the Compute Variable command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0510-3575-42AC-91B6-F50B992FB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8" name="Picture 7" descr="C:\Instructional Technology\BCT689\PowerPoint\spss gifs\compute\ancova dummy vars\dfgpa3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nter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30" name="AutoShape 4">
            <a:hlinkClick r:id="" action="ppaction://hlinkshowjump?jump=nextslide"/>
          </p:cNvPr>
          <p:cNvSpPr/>
          <p:nvPr/>
        </p:nvSpPr>
        <p:spPr>
          <a:xfrm>
            <a:off x="1828800" y="3200400"/>
            <a:ext cx="228600" cy="19051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1905120"/>
              <a:gd name="textAreaBottom" fmla="*/ 1890360 h 1905120"/>
            </a:gdLst>
            <a:ahLst/>
            <a:rect l="textAreaLeft" t="textAreaTop" r="textAreaRight" b="textAreaBottom"/>
            <a:pathLst>
              <a:path w="21600" h="179762">
                <a:moveTo>
                  <a:pt x="0" y="0"/>
                </a:moveTo>
                <a:lnTo>
                  <a:pt x="21600" y="0"/>
                </a:lnTo>
                <a:lnTo>
                  <a:pt x="21600" y="179762"/>
                </a:lnTo>
                <a:lnTo>
                  <a:pt x="0" y="179762"/>
                </a:lnTo>
                <a:close/>
              </a:path>
              <a:path fill="lightenLess" w="21600" h="179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79762">
                <a:moveTo>
                  <a:pt x="21600" y="0"/>
                </a:moveTo>
                <a:lnTo>
                  <a:pt x="21600" y="179762"/>
                </a:lnTo>
                <a:lnTo>
                  <a:pt x="20200" y="178362"/>
                </a:lnTo>
                <a:lnTo>
                  <a:pt x="20200" y="1400"/>
                </a:lnTo>
                <a:close/>
              </a:path>
              <a:path fill="darkenLess" w="21600" h="179762">
                <a:moveTo>
                  <a:pt x="21600" y="179762"/>
                </a:moveTo>
                <a:lnTo>
                  <a:pt x="0" y="179762"/>
                </a:lnTo>
                <a:lnTo>
                  <a:pt x="1400" y="178362"/>
                </a:lnTo>
                <a:lnTo>
                  <a:pt x="20200" y="178362"/>
                </a:lnTo>
                <a:close/>
              </a:path>
              <a:path fill="lighten" w="21600" h="179762">
                <a:moveTo>
                  <a:pt x="0" y="179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17836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5940360" y="2513160"/>
            <a:ext cx="304812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for multiplic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n scroll down the variable list to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2245-7EF2-4EA0-BE0E-6215F0722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4" name="Picture 6" descr="C:\Instructional Technology\BCT689\PowerPoint\spss gifs\compute\ancova dummy vars\dfgpa4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nter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36" name="AutoShape 4">
            <a:hlinkClick r:id="" action="ppaction://hlinkshowjump?jump=nextslide"/>
          </p:cNvPr>
          <p:cNvSpPr/>
          <p:nvPr/>
        </p:nvSpPr>
        <p:spPr>
          <a:xfrm>
            <a:off x="736560" y="4572000"/>
            <a:ext cx="1295280" cy="228600"/>
          </a:xfrm>
          <a:custGeom>
            <a:avLst/>
            <a:gdLst>
              <a:gd name="textAreaLeft" fmla="*/ 14760 w 1295280"/>
              <a:gd name="textAreaRight" fmla="*/ 1280520 w 12952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2230" h="21600">
                <a:moveTo>
                  <a:pt x="0" y="0"/>
                </a:moveTo>
                <a:lnTo>
                  <a:pt x="122230" y="0"/>
                </a:lnTo>
                <a:lnTo>
                  <a:pt x="122230" y="21600"/>
                </a:lnTo>
                <a:lnTo>
                  <a:pt x="0" y="21600"/>
                </a:lnTo>
                <a:close/>
              </a:path>
              <a:path fill="lightenLess" w="122230" h="21600">
                <a:moveTo>
                  <a:pt x="0" y="0"/>
                </a:moveTo>
                <a:lnTo>
                  <a:pt x="122230" y="0"/>
                </a:lnTo>
                <a:lnTo>
                  <a:pt x="120830" y="1400"/>
                </a:lnTo>
                <a:lnTo>
                  <a:pt x="1400" y="1400"/>
                </a:lnTo>
                <a:close/>
              </a:path>
              <a:path fill="darken" w="122230" h="21600">
                <a:moveTo>
                  <a:pt x="122230" y="0"/>
                </a:moveTo>
                <a:lnTo>
                  <a:pt x="122230" y="21600"/>
                </a:lnTo>
                <a:lnTo>
                  <a:pt x="120830" y="20200"/>
                </a:lnTo>
                <a:lnTo>
                  <a:pt x="120830" y="1400"/>
                </a:lnTo>
                <a:close/>
              </a:path>
              <a:path fill="darkenLess" w="122230" h="21600">
                <a:moveTo>
                  <a:pt x="1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830" y="20200"/>
                </a:lnTo>
                <a:close/>
              </a:path>
              <a:path fill="lighten" w="1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5940360" y="2513160"/>
            <a:ext cx="304812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for multiplic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n scroll down the variable list to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6400800" y="4876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C8A8-8359-4A77-A6B9-FA40D8441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1" name="Picture 7" descr="C:\Instructional Technology\BCT689\PowerPoint\spss gifs\compute\ancova dummy vars\dfgpa5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88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nter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43" name="AutoShape 4">
            <a:hlinkClick r:id="" action="ppaction://hlinkshowjump?jump=nextslide"/>
          </p:cNvPr>
          <p:cNvSpPr/>
          <p:nvPr/>
        </p:nvSpPr>
        <p:spPr>
          <a:xfrm>
            <a:off x="2031840" y="318780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5940360" y="2513160"/>
            <a:ext cx="304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arrow to 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box labeled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umeric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xpress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4968-C995-4761-BAC1-3FDC6673F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7" name="Picture 6" descr="C:\Instructional Technology\BCT689\PowerPoint\spss gifs\compute\ancova dummy vars\dfgpa6.gif"/>
          <p:cNvPicPr/>
          <p:nvPr/>
        </p:nvPicPr>
        <p:blipFill>
          <a:blip r:embed="rId1"/>
          <a:stretch/>
        </p:blipFill>
        <p:spPr>
          <a:xfrm>
            <a:off x="611280" y="2284560"/>
            <a:ext cx="5027400" cy="295416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981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a New Variable Using a Formula 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ntering a Formula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49" name="AutoShape 4">
            <a:hlinkClick r:id="" action="ppaction://hlinkshowjump?jump=nextslide"/>
          </p:cNvPr>
          <p:cNvSpPr/>
          <p:nvPr/>
        </p:nvSpPr>
        <p:spPr>
          <a:xfrm>
            <a:off x="2438280" y="4876920"/>
            <a:ext cx="381240" cy="241200"/>
          </a:xfrm>
          <a:custGeom>
            <a:avLst/>
            <a:gdLst>
              <a:gd name="textAreaLeft" fmla="*/ 15480 w 381240"/>
              <a:gd name="textAreaRight" fmla="*/ 365760 w 38124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5867280" y="2128680"/>
            <a:ext cx="312444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resulting formula i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gpa = 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otcum * fdumm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to create the new varia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AC86-547F-4E4F-A87B-A7A42C550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7313400" cy="1752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 Interactive Tutorial for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SPSS 10.0 for Windows</a:t>
            </a:r>
            <a:r>
              <a:rPr b="0" lang="en-US" sz="3200" spc="-1" strike="noStrike" baseline="30000">
                <a:solidFill>
                  <a:srgbClr val="990099"/>
                </a:solidFill>
                <a:latin typeface="Times New Roman"/>
              </a:rPr>
              <a:t>©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Computing Variables</a:t>
            </a:r>
            <a:endParaRPr b="0" lang="en-US" sz="32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54" name="Text Box 1027"/>
          <p:cNvSpPr/>
          <p:nvPr/>
        </p:nvSpPr>
        <p:spPr>
          <a:xfrm>
            <a:off x="121932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Text Box 1028"/>
          <p:cNvSpPr/>
          <p:nvPr/>
        </p:nvSpPr>
        <p:spPr>
          <a:xfrm>
            <a:off x="914400" y="2590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ick one of the follow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Text Box 1029"/>
          <p:cNvSpPr/>
          <p:nvPr/>
        </p:nvSpPr>
        <p:spPr>
          <a:xfrm>
            <a:off x="1219320" y="40384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a section of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Text Box 1030"/>
          <p:cNvSpPr/>
          <p:nvPr/>
        </p:nvSpPr>
        <p:spPr>
          <a:xfrm>
            <a:off x="1220760" y="4724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tuto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AutoShape 1031">
            <a:hlinkClick r:id="" action="ppaction://hlinkshowjump?jump=firstslide"/>
          </p:cNvPr>
          <p:cNvSpPr/>
          <p:nvPr/>
        </p:nvSpPr>
        <p:spPr>
          <a:xfrm>
            <a:off x="1447920" y="3429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AutoShape 1032"/>
          <p:cNvSpPr/>
          <p:nvPr/>
        </p:nvSpPr>
        <p:spPr>
          <a:xfrm>
            <a:off x="1523880" y="4114800"/>
            <a:ext cx="7086600" cy="533520"/>
          </a:xfrm>
          <a:custGeom>
            <a:avLst/>
            <a:gdLst>
              <a:gd name="textAreaLeft" fmla="*/ 34560 w 7086600"/>
              <a:gd name="textAreaRight" fmla="*/ 7052040 w 7086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86728" h="21600">
                <a:moveTo>
                  <a:pt x="0" y="0"/>
                </a:moveTo>
                <a:lnTo>
                  <a:pt x="286728" y="0"/>
                </a:lnTo>
                <a:lnTo>
                  <a:pt x="286728" y="21600"/>
                </a:lnTo>
                <a:lnTo>
                  <a:pt x="0" y="21600"/>
                </a:lnTo>
                <a:close/>
              </a:path>
              <a:path fill="lightenLess" w="286728" h="21600">
                <a:moveTo>
                  <a:pt x="0" y="0"/>
                </a:moveTo>
                <a:lnTo>
                  <a:pt x="286728" y="0"/>
                </a:lnTo>
                <a:lnTo>
                  <a:pt x="285328" y="1400"/>
                </a:lnTo>
                <a:lnTo>
                  <a:pt x="1400" y="1400"/>
                </a:lnTo>
                <a:close/>
              </a:path>
              <a:path fill="darken" w="286728" h="21600">
                <a:moveTo>
                  <a:pt x="286728" y="0"/>
                </a:moveTo>
                <a:lnTo>
                  <a:pt x="286728" y="21600"/>
                </a:lnTo>
                <a:lnTo>
                  <a:pt x="285328" y="20200"/>
                </a:lnTo>
                <a:lnTo>
                  <a:pt x="285328" y="1400"/>
                </a:lnTo>
                <a:close/>
              </a:path>
              <a:path fill="darkenLess" w="286728" h="21600">
                <a:moveTo>
                  <a:pt x="286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328" y="20200"/>
                </a:lnTo>
                <a:close/>
              </a:path>
              <a:path fill="lighten" w="286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AutoShape 1033"/>
          <p:cNvSpPr/>
          <p:nvPr/>
        </p:nvSpPr>
        <p:spPr>
          <a:xfrm>
            <a:off x="1523880" y="4724280"/>
            <a:ext cx="4800600" cy="60984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69945" h="21600">
                <a:moveTo>
                  <a:pt x="0" y="0"/>
                </a:moveTo>
                <a:lnTo>
                  <a:pt x="169945" y="0"/>
                </a:lnTo>
                <a:lnTo>
                  <a:pt x="169945" y="21600"/>
                </a:lnTo>
                <a:lnTo>
                  <a:pt x="0" y="21600"/>
                </a:lnTo>
                <a:close/>
              </a:path>
              <a:path fill="lightenLess" w="169945" h="21600">
                <a:moveTo>
                  <a:pt x="0" y="0"/>
                </a:moveTo>
                <a:lnTo>
                  <a:pt x="169945" y="0"/>
                </a:lnTo>
                <a:lnTo>
                  <a:pt x="168546" y="1400"/>
                </a:lnTo>
                <a:lnTo>
                  <a:pt x="1400" y="1400"/>
                </a:lnTo>
                <a:close/>
              </a:path>
              <a:path fill="darken" w="169945" h="21600">
                <a:moveTo>
                  <a:pt x="169945" y="0"/>
                </a:moveTo>
                <a:lnTo>
                  <a:pt x="169945" y="21600"/>
                </a:lnTo>
                <a:lnTo>
                  <a:pt x="168546" y="20200"/>
                </a:lnTo>
                <a:lnTo>
                  <a:pt x="168546" y="1400"/>
                </a:lnTo>
                <a:close/>
              </a:path>
              <a:path fill="darkenLess" w="169945" h="21600">
                <a:moveTo>
                  <a:pt x="16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546" y="20200"/>
                </a:lnTo>
                <a:close/>
              </a:path>
              <a:path fill="lighten" w="16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F97D-E01E-4D53-924F-F0C7E5452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09480" y="2208240"/>
            <a:ext cx="81536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ections of this tutorial explain how t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436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ute a new variable by assigning a value (setting it equal to zer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436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selective criteria to compute a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436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ute a new variable by using a formula (multiplying two variabl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AutoShape 8">
            <a:hlinkClick r:id="rId1" action="ppaction://hlinksldjump"/>
          </p:cNvPr>
          <p:cNvSpPr/>
          <p:nvPr/>
        </p:nvSpPr>
        <p:spPr>
          <a:xfrm>
            <a:off x="1371600" y="4038480"/>
            <a:ext cx="5867280" cy="457200"/>
          </a:xfrm>
          <a:custGeom>
            <a:avLst/>
            <a:gdLst>
              <a:gd name="textAreaLeft" fmla="*/ 29520 w 5867280"/>
              <a:gd name="textAreaRight" fmla="*/ 5837760 w 5867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76993" h="21600">
                <a:moveTo>
                  <a:pt x="0" y="0"/>
                </a:moveTo>
                <a:lnTo>
                  <a:pt x="276993" y="0"/>
                </a:lnTo>
                <a:lnTo>
                  <a:pt x="276993" y="21600"/>
                </a:lnTo>
                <a:lnTo>
                  <a:pt x="0" y="21600"/>
                </a:lnTo>
                <a:close/>
              </a:path>
              <a:path fill="lightenLess" w="276993" h="21600">
                <a:moveTo>
                  <a:pt x="0" y="0"/>
                </a:moveTo>
                <a:lnTo>
                  <a:pt x="276993" y="0"/>
                </a:lnTo>
                <a:lnTo>
                  <a:pt x="275593" y="1400"/>
                </a:lnTo>
                <a:lnTo>
                  <a:pt x="1400" y="1400"/>
                </a:lnTo>
                <a:close/>
              </a:path>
              <a:path fill="darken" w="276993" h="21600">
                <a:moveTo>
                  <a:pt x="276993" y="0"/>
                </a:moveTo>
                <a:lnTo>
                  <a:pt x="276993" y="21600"/>
                </a:lnTo>
                <a:lnTo>
                  <a:pt x="275593" y="20200"/>
                </a:lnTo>
                <a:lnTo>
                  <a:pt x="275593" y="1400"/>
                </a:lnTo>
                <a:close/>
              </a:path>
              <a:path fill="darkenLess" w="276993" h="21600">
                <a:moveTo>
                  <a:pt x="276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593" y="20200"/>
                </a:lnTo>
                <a:close/>
              </a:path>
              <a:path fill="lighten" w="276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AutoShape 9">
            <a:hlinkClick r:id="rId2" action="ppaction://hlinksldjump"/>
          </p:cNvPr>
          <p:cNvSpPr/>
          <p:nvPr/>
        </p:nvSpPr>
        <p:spPr>
          <a:xfrm>
            <a:off x="1295280" y="4648320"/>
            <a:ext cx="6324840" cy="838080"/>
          </a:xfrm>
          <a:custGeom>
            <a:avLst/>
            <a:gdLst>
              <a:gd name="textAreaLeft" fmla="*/ 54000 w 6324840"/>
              <a:gd name="textAreaRight" fmla="*/ 6270840 w 6324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2951" h="21600">
                <a:moveTo>
                  <a:pt x="0" y="0"/>
                </a:moveTo>
                <a:lnTo>
                  <a:pt x="162951" y="0"/>
                </a:lnTo>
                <a:lnTo>
                  <a:pt x="162951" y="21600"/>
                </a:lnTo>
                <a:lnTo>
                  <a:pt x="0" y="21600"/>
                </a:lnTo>
                <a:close/>
              </a:path>
              <a:path fill="lightenLess" w="162951" h="21600">
                <a:moveTo>
                  <a:pt x="0" y="0"/>
                </a:moveTo>
                <a:lnTo>
                  <a:pt x="162951" y="0"/>
                </a:lnTo>
                <a:lnTo>
                  <a:pt x="161551" y="1400"/>
                </a:lnTo>
                <a:lnTo>
                  <a:pt x="1400" y="1400"/>
                </a:lnTo>
                <a:close/>
              </a:path>
              <a:path fill="darken" w="162951" h="21600">
                <a:moveTo>
                  <a:pt x="162951" y="0"/>
                </a:moveTo>
                <a:lnTo>
                  <a:pt x="162951" y="21600"/>
                </a:lnTo>
                <a:lnTo>
                  <a:pt x="161551" y="20200"/>
                </a:lnTo>
                <a:lnTo>
                  <a:pt x="161551" y="1400"/>
                </a:lnTo>
                <a:close/>
              </a:path>
              <a:path fill="darkenLess" w="162951" h="21600">
                <a:moveTo>
                  <a:pt x="162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551" y="20200"/>
                </a:lnTo>
                <a:close/>
              </a:path>
              <a:path fill="lighten" w="162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AutoShape 7">
            <a:hlinkClick r:id="rId3" action="ppaction://hlinksldjump"/>
          </p:cNvPr>
          <p:cNvSpPr/>
          <p:nvPr/>
        </p:nvSpPr>
        <p:spPr>
          <a:xfrm>
            <a:off x="1295280" y="2895480"/>
            <a:ext cx="6629400" cy="914400"/>
          </a:xfrm>
          <a:custGeom>
            <a:avLst/>
            <a:gdLst>
              <a:gd name="textAreaLeft" fmla="*/ 59040 w 6629400"/>
              <a:gd name="textAreaRight" fmla="*/ 6570360 w 6629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56547" h="21600">
                <a:moveTo>
                  <a:pt x="0" y="0"/>
                </a:moveTo>
                <a:lnTo>
                  <a:pt x="156547" y="0"/>
                </a:lnTo>
                <a:lnTo>
                  <a:pt x="156547" y="21600"/>
                </a:lnTo>
                <a:lnTo>
                  <a:pt x="0" y="21600"/>
                </a:lnTo>
                <a:close/>
              </a:path>
              <a:path fill="lightenLess" w="156547" h="21600">
                <a:moveTo>
                  <a:pt x="0" y="0"/>
                </a:moveTo>
                <a:lnTo>
                  <a:pt x="156547" y="0"/>
                </a:lnTo>
                <a:lnTo>
                  <a:pt x="155147" y="1400"/>
                </a:lnTo>
                <a:lnTo>
                  <a:pt x="1400" y="1400"/>
                </a:lnTo>
                <a:close/>
              </a:path>
              <a:path fill="darken" w="156547" h="21600">
                <a:moveTo>
                  <a:pt x="156547" y="0"/>
                </a:moveTo>
                <a:lnTo>
                  <a:pt x="156547" y="21600"/>
                </a:lnTo>
                <a:lnTo>
                  <a:pt x="155147" y="20200"/>
                </a:lnTo>
                <a:lnTo>
                  <a:pt x="155147" y="1400"/>
                </a:lnTo>
                <a:close/>
              </a:path>
              <a:path fill="darkenLess" w="156547" h="21600">
                <a:moveTo>
                  <a:pt x="15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5147" y="20200"/>
                </a:lnTo>
                <a:close/>
              </a:path>
              <a:path fill="lighten" w="15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0A96-335A-4459-BD6E-AEC46C23B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AutoShape 4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09480" y="2055960"/>
            <a:ext cx="81536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1624"/>
              </a:spcBef>
              <a:buClr>
                <a:srgbClr val="eaeaea"/>
              </a:buClr>
              <a:buFont typeface="Times New Roman"/>
              <a:buChar char="•"/>
              <a:tabLst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1624"/>
              </a:spcBef>
              <a:buClr>
                <a:srgbClr val="eaeaea"/>
              </a:buClr>
              <a:buFont typeface="Times New Roman"/>
              <a:buChar char="•"/>
              <a:tabLst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09480" y="2055960"/>
            <a:ext cx="81536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09480" y="2741760"/>
            <a:ext cx="81536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es a new variable,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ith a value of zer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09480" y="3429000"/>
            <a:ext cx="81536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45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s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or fema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82760" y="4114800"/>
            <a:ext cx="8127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168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es a new (dummy) variable,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gp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by multiplying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fdumm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y the existing variabl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otcum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total cumulative undergraduate gp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F5EC-4679-48E9-ACFC-145247679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Picture 8" descr="C:\Instructional Technology\BCT689\PowerPoint\spss gifs\compute\menu1.gif"/>
          <p:cNvPicPr/>
          <p:nvPr/>
        </p:nvPicPr>
        <p:blipFill>
          <a:blip r:embed="rId1"/>
          <a:stretch/>
        </p:blipFill>
        <p:spPr>
          <a:xfrm>
            <a:off x="4570560" y="3016080"/>
            <a:ext cx="2549520" cy="1920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a New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838080" y="30160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AutoShape 4">
            <a:hlinkClick r:id="" action="ppaction://hlinkshowjump?jump=nextslide"/>
          </p:cNvPr>
          <p:cNvSpPr/>
          <p:nvPr/>
        </p:nvSpPr>
        <p:spPr>
          <a:xfrm>
            <a:off x="5016600" y="29718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compute a new variab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2FFE-FD62-4B35-9274-D73CBF39F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Picture 6" descr="C:\Instructional Technology\BCT689\PowerPoint\spss gifs\compute\menu2.gif"/>
          <p:cNvPicPr/>
          <p:nvPr/>
        </p:nvPicPr>
        <p:blipFill>
          <a:blip r:embed="rId1"/>
          <a:stretch/>
        </p:blipFill>
        <p:spPr>
          <a:xfrm>
            <a:off x="4570560" y="3016080"/>
            <a:ext cx="2732040" cy="1863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a New Variabl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38080" y="3016080"/>
            <a:ext cx="3505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mput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AutoShape 5">
            <a:hlinkClick r:id="" action="ppaction://hlinkshowjump?jump=nextslide"/>
          </p:cNvPr>
          <p:cNvSpPr/>
          <p:nvPr/>
        </p:nvSpPr>
        <p:spPr>
          <a:xfrm>
            <a:off x="5181480" y="32004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compute a variab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A910-3384-4A62-B4DA-D99170DF4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7" descr="C:\Instructional Technology\BCT689\PowerPoint\spss gifs\compute\menu3.gif"/>
          <p:cNvPicPr/>
          <p:nvPr/>
        </p:nvPicPr>
        <p:blipFill>
          <a:blip r:embed="rId1"/>
          <a:stretch/>
        </p:blipFill>
        <p:spPr>
          <a:xfrm>
            <a:off x="4570560" y="3016080"/>
            <a:ext cx="2732040" cy="1874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838080" y="3016080"/>
            <a:ext cx="3505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ans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33280" indent="-23328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mput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AutoShape 5">
            <a:hlinkClick r:id="" action="ppaction://hlinkshowjump?jump=nextslide"/>
          </p:cNvPr>
          <p:cNvSpPr/>
          <p:nvPr/>
        </p:nvSpPr>
        <p:spPr>
          <a:xfrm>
            <a:off x="5181480" y="3276720"/>
            <a:ext cx="1828800" cy="30456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29574" h="21600">
                <a:moveTo>
                  <a:pt x="0" y="0"/>
                </a:moveTo>
                <a:lnTo>
                  <a:pt x="129574" y="0"/>
                </a:lnTo>
                <a:lnTo>
                  <a:pt x="129574" y="21600"/>
                </a:lnTo>
                <a:lnTo>
                  <a:pt x="0" y="21600"/>
                </a:lnTo>
                <a:close/>
              </a:path>
              <a:path fill="lightenLess" w="129574" h="21600">
                <a:moveTo>
                  <a:pt x="0" y="0"/>
                </a:moveTo>
                <a:lnTo>
                  <a:pt x="129574" y="0"/>
                </a:lnTo>
                <a:lnTo>
                  <a:pt x="128175" y="1400"/>
                </a:lnTo>
                <a:lnTo>
                  <a:pt x="1400" y="1400"/>
                </a:lnTo>
                <a:close/>
              </a:path>
              <a:path fill="darken" w="129574" h="21600">
                <a:moveTo>
                  <a:pt x="129574" y="0"/>
                </a:moveTo>
                <a:lnTo>
                  <a:pt x="129574" y="21600"/>
                </a:lnTo>
                <a:lnTo>
                  <a:pt x="128175" y="20200"/>
                </a:lnTo>
                <a:lnTo>
                  <a:pt x="128175" y="1400"/>
                </a:lnTo>
                <a:close/>
              </a:path>
              <a:path fill="darkenLess" w="129574" h="21600">
                <a:moveTo>
                  <a:pt x="129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75" y="20200"/>
                </a:lnTo>
                <a:close/>
              </a:path>
              <a:path fill="lighten" w="129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905120" y="4754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compute a variab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60948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puting Variables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Computing a New Variab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00:33:49Z</dcterms:created>
  <dc:creator>Julia Hartman</dc:creator>
  <dc:description/>
  <cp:keywords>SPSS</cp:keywords>
  <dc:language>en-US</dc:language>
  <cp:lastModifiedBy>Windows User</cp:lastModifiedBy>
  <dcterms:modified xsi:type="dcterms:W3CDTF">2011-12-05T18:37:31Z</dcterms:modified>
  <cp:revision>192</cp:revision>
  <dc:subject>SPSS</dc:subject>
  <dc:title>SPSS Computing New Variables Tutorial</dc:title>
</cp:coreProperties>
</file>